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B61-D57D-48E6-9E49-80ADD345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0EA-A040-4849-95AB-CE6AFD5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149-33C9-4B8F-827D-24FAAD6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67F-B148-4F83-ACAE-15842764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B51-8AF6-4ABB-8F27-43747B2D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F99-0A83-49AB-9A78-0C554137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E7D-92EC-4DAA-84AF-4775101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46C-9F7A-4681-BE13-2F11FF9C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313-A772-4280-912C-50C22E1A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2D6-CFCC-4DC8-8A1C-E2FC6773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C7A-420C-4044-BCB8-F45C382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6F8-8178-41D2-B49E-5ACB4D5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A1A-B7A8-4DC6-A557-6601F25E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8:24:39Z</dcterms:created>
  <dc:creator>sssd</dc:creator>
  <dc:description/>
  <dc:language>en-US</dc:language>
  <cp:lastModifiedBy>sssd</cp:lastModifiedBy>
  <dcterms:modified xsi:type="dcterms:W3CDTF">2008-07-27T18:28:47Z</dcterms:modified>
  <cp:revision>1</cp:revision>
  <dc:subject/>
  <dc:title>PowerPoint Presentation</dc:title>
</cp:coreProperties>
</file>